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A67-84C9-4989-A39F-CBE6EBCC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BA1-CDA0-4B93-869F-97322325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7ED-3E33-4AD8-9BEC-505182A7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802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98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2032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802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98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43B-3AC4-4D2A-A21E-B670EF06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B5FF-CD6B-46DB-A006-46847068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505A-148F-426C-AF27-24811D1A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3E03-EB78-424A-9DDC-BA3B05B0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23BE-D770-48DB-817F-7677C1A7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D3B5-AF4F-4AEF-80F7-70C6A226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5963-62DB-4113-BBD0-436B41F6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9415-BF37-4560-BD9D-5D17CCB4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C01-C6DC-4EC0-94DE-FD9D267B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DDCE-F90A-4E2C-8638-4B83617A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A88A-6D2A-4325-8656-F402C0F0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5101-A65B-497B-9FF7-9B4B93BF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0D2C-C0D6-4B85-8B3F-40A426BA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802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398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2032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802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398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9183-09A7-45EA-89AC-582B5B9E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986-77E4-456E-85DA-2DB6F315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07B-CB4E-44E3-BDDA-67D1F8AC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26D-E4FA-4E45-BC46-D1CBAE9A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BF0-F21B-417F-A0B8-3B6939FA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345-EFC5-4994-B4F8-4CD0D994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4B1-863E-4859-91D2-8B798D23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2A7-5B27-46A7-9F58-800417AF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725C5-74D5-45C2-AF70-5D2C61B2B8D5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11320" y="7873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437840" y="27432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403A2-B2C2-4CA9-8B4A-A7F491EA659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Τίτλος 1" descr=""/>
          <p:cNvPicPr/>
          <p:nvPr/>
        </p:nvPicPr>
        <p:blipFill>
          <a:blip r:embed="rId1"/>
          <a:stretch/>
        </p:blipFill>
        <p:spPr>
          <a:xfrm>
            <a:off x="2212920" y="4462560"/>
            <a:ext cx="9425160" cy="1646280"/>
          </a:xfrm>
          <a:prstGeom prst="rect">
            <a:avLst/>
          </a:prstGeom>
          <a:ln w="0">
            <a:noFill/>
          </a:ln>
        </p:spPr>
      </p:pic>
      <p:pic>
        <p:nvPicPr>
          <p:cNvPr id="85" name="Υπότιτλος 2" descr=""/>
          <p:cNvPicPr/>
          <p:nvPr/>
        </p:nvPicPr>
        <p:blipFill>
          <a:blip r:embed="rId2"/>
          <a:stretch/>
        </p:blipFill>
        <p:spPr>
          <a:xfrm>
            <a:off x="2206800" y="3200400"/>
            <a:ext cx="91440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3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7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9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371520" y="158760"/>
            <a:ext cx="109854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1114884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68200" y="128520"/>
            <a:ext cx="1108872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76040" y="66600"/>
            <a:ext cx="1118088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62080" y="115920"/>
            <a:ext cx="110948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39680" y="85680"/>
            <a:ext cx="112172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Τίτλος 1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87" name="Θέση περιεχομένου 2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19240" y="133200"/>
            <a:ext cx="1113768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39680" y="92160"/>
            <a:ext cx="1121724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82520" y="158760"/>
            <a:ext cx="111744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74680" y="158760"/>
            <a:ext cx="1108224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4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89" name="5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1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3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5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7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9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1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9T09:29:30Z</dcterms:created>
  <dc:creator>Βιβη</dc:creator>
  <dc:description/>
  <dc:language>en-US</dc:language>
  <cp:lastModifiedBy>Kostantinos Lolitsas</cp:lastModifiedBy>
  <dcterms:modified xsi:type="dcterms:W3CDTF">2020-02-16T11:41:37Z</dcterms:modified>
  <cp:revision>37</cp:revision>
  <dc:subject/>
  <dc:title>Παρουσίαση του PowerPoint</dc:title>
</cp:coreProperties>
</file>